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30C-B222-49B8-88C2-1EFE3429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C79-0BDA-4B7E-9749-1A211479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17D-A871-4C66-B0E7-22F4C1CA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4BF-8DBF-4C78-AF07-1AFE3F77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91E-006E-4E48-A239-02A5810F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BE2-9F26-4D8B-A08E-4750C8F2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7F5-5F6C-40C0-B984-C2D9B80F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30D-3A8A-47B8-A725-C5F34A2A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A88-B091-4EB1-AA40-21F29C82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CCC-864C-4438-885C-6C6C9DEB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864-A5F6-4315-8A80-725A018F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A74-4040-461C-92BC-7F7B0181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6104-C3B8-45F0-AC91-D771AD580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18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64" descr=""/>
          <p:cNvPicPr/>
          <p:nvPr/>
        </p:nvPicPr>
        <p:blipFill>
          <a:blip r:embed="rId1"/>
          <a:stretch/>
        </p:blipFill>
        <p:spPr>
          <a:xfrm>
            <a:off x="66600" y="1933560"/>
            <a:ext cx="9153720" cy="4924440"/>
          </a:xfrm>
          <a:prstGeom prst="rect">
            <a:avLst/>
          </a:prstGeom>
          <a:ln w="0">
            <a:noFill/>
          </a:ln>
        </p:spPr>
      </p:pic>
      <p:sp>
        <p:nvSpPr>
          <p:cNvPr id="43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222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6" name="WordArt 223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7" name="WordArt 224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8" name="WordArt 225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9" name="WordArt 227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50" name="Text Box 229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0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Hi! This ……… my garde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31"/>
          <p:cNvSpPr/>
          <p:nvPr/>
        </p:nvSpPr>
        <p:spPr>
          <a:xfrm>
            <a:off x="3276720" y="11430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226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pic>
        <p:nvPicPr>
          <p:cNvPr id="54" name="Picture 363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65" descr=""/>
          <p:cNvPicPr/>
          <p:nvPr/>
        </p:nvPicPr>
        <p:blipFill>
          <a:blip r:embed="rId5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66" descr=""/>
          <p:cNvPicPr/>
          <p:nvPr/>
        </p:nvPicPr>
        <p:blipFill>
          <a:blip r:embed="rId6"/>
          <a:stretch/>
        </p:blipFill>
        <p:spPr>
          <a:xfrm>
            <a:off x="914400" y="2133720"/>
            <a:ext cx="704880" cy="723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23 C -0.02761 0.07006 -0.08924 0.0941 -0.13368 0.0578 C -0.17917 0.02058 -0.19045 -0.06358 -0.15799 -0.13387 C -0.12552 -0.20393 -0.13698 -0.28786 -0.18264 -0.32532 C -0.22709 -0.36185 -0.28802 -0.33734 -0.32049 -0.26705 E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5"/>
          <p:cNvSpPr/>
          <p:nvPr/>
        </p:nvSpPr>
        <p:spPr>
          <a:xfrm flipV="1">
            <a:off x="0" y="54241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97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187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90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91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92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93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94" name="Text Box 69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 dogs ……… at the farm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0"/>
          <p:cNvSpPr/>
          <p:nvPr/>
        </p:nvSpPr>
        <p:spPr>
          <a:xfrm>
            <a:off x="3657600" y="1143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155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97" name="Text Box 195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96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533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9" descr=""/>
          <p:cNvPicPr/>
          <p:nvPr/>
        </p:nvPicPr>
        <p:blipFill>
          <a:blip r:embed="rId5"/>
          <a:stretch/>
        </p:blipFill>
        <p:spPr>
          <a:xfrm>
            <a:off x="914400" y="220968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00" descr=""/>
          <p:cNvPicPr/>
          <p:nvPr/>
        </p:nvPicPr>
        <p:blipFill>
          <a:blip r:embed="rId6"/>
          <a:stretch/>
        </p:blipFill>
        <p:spPr>
          <a:xfrm>
            <a:off x="6324480" y="584820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69942E-006 C -0.03021 0.0555 -0.10452 0.04995 -0.16545 -0.00971 C -0.22813 -0.07052 -0.25417 -0.16254 -0.22309 -0.21734 C -0.19254 -0.27398 -0.21875 -0.36485 -0.28142 -0.42566 C -0.34254 -0.48555 -0.41597 -0.49086 -0.44653 -0.43514 E">
                                      <p:cBhvr>
                                        <p:cTn id="533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 flipV="1">
            <a:off x="0" y="54241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97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203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06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07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08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09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10" name="Text Box 69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 garden …… very bi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0"/>
          <p:cNvSpPr/>
          <p:nvPr/>
        </p:nvSpPr>
        <p:spPr>
          <a:xfrm>
            <a:off x="4267080" y="1143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155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13" name="Text Box 195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96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99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00" descr=""/>
          <p:cNvPicPr/>
          <p:nvPr/>
        </p:nvPicPr>
        <p:blipFill>
          <a:blip r:embed="rId6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23 C -0.02761 0.07006 -0.08924 0.0941 -0.13368 0.0578 C -0.17917 0.02058 -0.19045 -0.06358 -0.15799 -0.13387 C -0.12552 -0.20393 -0.13698 -0.28786 -0.18264 -0.32532 C -0.22709 -0.36185 -0.28802 -0.33734 -0.32049 -0.26705 E">
                                      <p:cBhvr>
                                        <p:cTn id="55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4"/>
          <p:cNvSpPr/>
          <p:nvPr/>
        </p:nvSpPr>
        <p:spPr>
          <a:xfrm flipV="1">
            <a:off x="0" y="54241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8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219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2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3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4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5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6" name="Text Box 70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t …… a beautiful da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1"/>
          <p:cNvSpPr/>
          <p:nvPr/>
        </p:nvSpPr>
        <p:spPr>
          <a:xfrm>
            <a:off x="1981080" y="1143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156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9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0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1" descr=""/>
          <p:cNvPicPr/>
          <p:nvPr/>
        </p:nvPicPr>
        <p:blipFill>
          <a:blip r:embed="rId6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23 C -0.02761 0.07006 -0.08924 0.0941 -0.13368 0.0578 C -0.17917 0.02058 -0.19045 -0.06358 -0.15799 -0.13387 C -0.12552 -0.20393 -0.13698 -0.28786 -0.18264 -0.32532 C -0.22709 -0.36185 -0.28802 -0.33734 -0.32049 -0.26705 E">
                                      <p:cBhvr>
                                        <p:cTn id="609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2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5"/>
          <p:cNvSpPr/>
          <p:nvPr/>
        </p:nvSpPr>
        <p:spPr>
          <a:xfrm flipV="1">
            <a:off x="0" y="5437800"/>
            <a:ext cx="9144000" cy="144756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99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235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38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39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0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1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2" name="Text Box 70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Let’s play! We ……….. tir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1"/>
          <p:cNvSpPr/>
          <p:nvPr/>
        </p:nvSpPr>
        <p:spPr>
          <a:xfrm>
            <a:off x="4572000" y="1143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re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156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5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98" descr=""/>
          <p:cNvPicPr/>
          <p:nvPr/>
        </p:nvPicPr>
        <p:blipFill>
          <a:blip r:embed="rId4"/>
          <a:stretch/>
        </p:blipFill>
        <p:spPr>
          <a:xfrm>
            <a:off x="152280" y="47520"/>
            <a:ext cx="8915400" cy="1857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00" descr=""/>
          <p:cNvPicPr/>
          <p:nvPr/>
        </p:nvPicPr>
        <p:blipFill>
          <a:blip r:embed="rId5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01" descr=""/>
          <p:cNvPicPr/>
          <p:nvPr/>
        </p:nvPicPr>
        <p:blipFill>
          <a:blip r:embed="rId6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-0.01318 C 0.01823 0.00647 0.06875 -0.02381 0.08055 -0.07977 C 0.09271 -0.13711 0.06146 -0.19838 0.00781 -0.2185 C -0.04514 -0.23861 -0.07709 -0.29988 -0.06493 -0.35722 C -0.0533 -0.41295 -0.00243 -0.4437 0.05173 -0.42358 E">
                                      <p:cBhvr>
                                        <p:cTn id="668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4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99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251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54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55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56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57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58" name="Text Box 70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 …….. tired. I want to sleep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1"/>
          <p:cNvSpPr/>
          <p:nvPr/>
        </p:nvSpPr>
        <p:spPr>
          <a:xfrm>
            <a:off x="609480" y="1143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156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61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98" descr=""/>
          <p:cNvPicPr/>
          <p:nvPr/>
        </p:nvPicPr>
        <p:blipFill>
          <a:blip r:embed="rId4"/>
          <a:stretch/>
        </p:blipFill>
        <p:spPr>
          <a:xfrm>
            <a:off x="76320" y="47520"/>
            <a:ext cx="8915400" cy="1857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01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02" descr=""/>
          <p:cNvPicPr/>
          <p:nvPr/>
        </p:nvPicPr>
        <p:blipFill>
          <a:blip r:embed="rId6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4335E-006 C 0.03316 -0.12601 -0.01302 -0.25664 -0.10052 -0.29826 C -0.19098 -0.34127 -0.28837 -0.27861 -0.32205 -0.15283 C -0.35556 -0.02659 -0.454 0.03584 -0.5441 -0.00693 C -0.63195 -0.04855 -0.67761 -0.17942 -0.64375 -0.30566 E">
                                      <p:cBhvr>
                                        <p:cTn id="727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38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4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5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97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267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70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71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72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73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74" name="Text Box 69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t ……… night. It’s mornin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0"/>
          <p:cNvSpPr/>
          <p:nvPr/>
        </p:nvSpPr>
        <p:spPr>
          <a:xfrm>
            <a:off x="1523880" y="1143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is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55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77" name="Text Box 195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96" descr=""/>
          <p:cNvPicPr/>
          <p:nvPr/>
        </p:nvPicPr>
        <p:blipFill>
          <a:blip r:embed="rId4"/>
          <a:stretch/>
        </p:blipFill>
        <p:spPr>
          <a:xfrm>
            <a:off x="76320" y="47520"/>
            <a:ext cx="8915400" cy="1857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9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00" descr=""/>
          <p:cNvPicPr/>
          <p:nvPr/>
        </p:nvPicPr>
        <p:blipFill>
          <a:blip r:embed="rId6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86 0.02104 C 0.07066 0.05734 0.11649 0.05942 0.13055 0.02867 C 0.14531 -0.0037 0.12274 -0.05711 0.07795 -0.09341 C 0.03298 -0.12971 0.01041 -0.18266 0.025 -0.2148 C 0.03906 -0.24578 0.08541 -0.24393 0.13003 -0.20763 E">
                                      <p:cBhvr>
                                        <p:cTn id="786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4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97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283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86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87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88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89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90" name="Text Box 69"/>
          <p:cNvSpPr/>
          <p:nvPr/>
        </p:nvSpPr>
        <p:spPr>
          <a:xfrm>
            <a:off x="76320" y="137160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Good-bye! I …….. off to b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0"/>
          <p:cNvSpPr/>
          <p:nvPr/>
        </p:nvSpPr>
        <p:spPr>
          <a:xfrm>
            <a:off x="4038480" y="1143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155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93" name="Text Box 195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96" descr=""/>
          <p:cNvPicPr/>
          <p:nvPr/>
        </p:nvPicPr>
        <p:blipFill>
          <a:blip r:embed="rId4"/>
          <a:stretch/>
        </p:blipFill>
        <p:spPr>
          <a:xfrm>
            <a:off x="152280" y="47520"/>
            <a:ext cx="8915400" cy="1857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99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00" descr=""/>
          <p:cNvPicPr/>
          <p:nvPr/>
        </p:nvPicPr>
        <p:blipFill>
          <a:blip r:embed="rId6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4335E-006 C 0.03316 -0.12601 -0.01302 -0.25664 -0.10052 -0.29826 C -0.19098 -0.34127 -0.28837 -0.27861 -0.32205 -0.15283 C -0.35556 -0.02659 -0.454 0.03584 -0.5441 -0.00693 C -0.63195 -0.04855 -0.67761 -0.17942 -0.64375 -0.30566 E">
                                      <p:cBhvr>
                                        <p:cTn id="833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83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 flipV="1">
            <a:off x="0" y="54241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56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59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2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2" name="WordArt 63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3" name="WordArt 64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4" name="WordArt 65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5" name="WordArt 66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y ……… our friend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3048120" y="11430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154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9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7" descr=""/>
          <p:cNvPicPr/>
          <p:nvPr/>
        </p:nvPicPr>
        <p:blipFill>
          <a:blip r:embed="rId5"/>
          <a:stretch/>
        </p:blipFill>
        <p:spPr>
          <a:xfrm>
            <a:off x="6324480" y="5848200"/>
            <a:ext cx="91440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8" descr=""/>
          <p:cNvPicPr/>
          <p:nvPr/>
        </p:nvPicPr>
        <p:blipFill>
          <a:blip r:embed="rId6"/>
          <a:stretch/>
        </p:blipFill>
        <p:spPr>
          <a:xfrm>
            <a:off x="914400" y="2209680"/>
            <a:ext cx="704880" cy="723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69942E-006 C -0.03021 0.0555 -0.10452 0.04995 -0.16545 -0.00971 C -0.22813 -0.07052 -0.25417 -0.16254 -0.22309 -0.21734 C -0.19254 -0.27398 -0.21875 -0.36485 -0.28142 -0.42566 C -0.34254 -0.48555 -0.41597 -0.49086 -0.44653 -0.43514 E">
                                      <p:cBhvr>
                                        <p:cTn id="10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 flipV="1">
            <a:off x="0" y="54241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56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75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2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78" name="WordArt 63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79" name="WordArt 64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80" name="WordArt 65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81" name="WordArt 66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82" name="Text Box 68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 ………… big. I’m smal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9"/>
          <p:cNvSpPr/>
          <p:nvPr/>
        </p:nvSpPr>
        <p:spPr>
          <a:xfrm>
            <a:off x="1523880" y="1143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m 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54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85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7" descr=""/>
          <p:cNvPicPr/>
          <p:nvPr/>
        </p:nvPicPr>
        <p:blipFill>
          <a:blip r:embed="rId5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8" descr=""/>
          <p:cNvPicPr/>
          <p:nvPr/>
        </p:nvPicPr>
        <p:blipFill>
          <a:blip r:embed="rId6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2335 C -0.00799 0.0037 0.00816 -0.06821 -0.01059 -0.13549 C -0.02986 -0.20601 -0.07587 -0.24601 -0.11771 -0.2259 C -0.15955 -0.20624 -0.20695 -0.2474 -0.2257 -0.3163 C -0.2441 -0.3852 -0.22691 -0.45526 -0.18594 -0.47514 E">
                                      <p:cBhvr>
                                        <p:cTn id="15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 flipV="1">
            <a:off x="0" y="54241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56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91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62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94" name="WordArt 63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95" name="WordArt 64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96" name="WordArt 65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97" name="WordArt 66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98" name="Text Box 68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 …….. a ladybug. I’m r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9"/>
          <p:cNvSpPr/>
          <p:nvPr/>
        </p:nvSpPr>
        <p:spPr>
          <a:xfrm>
            <a:off x="914400" y="1143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54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01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57" descr=""/>
          <p:cNvPicPr/>
          <p:nvPr/>
        </p:nvPicPr>
        <p:blipFill>
          <a:blip r:embed="rId5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8" descr=""/>
          <p:cNvPicPr/>
          <p:nvPr/>
        </p:nvPicPr>
        <p:blipFill>
          <a:blip r:embed="rId6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4335E-006 C 0.03316 -0.12601 -0.01302 -0.25664 -0.10052 -0.29826 C -0.19098 -0.34127 -0.28837 -0.27861 -0.32205 -0.15283 C -0.35556 -0.02659 -0.454 0.03584 -0.5441 -0.00693 C -0.63195 -0.04855 -0.67761 -0.17942 -0.64375 -0.30566 E">
                                      <p:cBhvr>
                                        <p:cTn id="19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 flipV="1">
            <a:off x="0" y="54241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56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107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62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10" name="WordArt 63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11" name="WordArt 64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12" name="WordArt 65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13" name="WordArt 66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14" name="Text Box 68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 …….. a yellow butterfl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9"/>
          <p:cNvSpPr/>
          <p:nvPr/>
        </p:nvSpPr>
        <p:spPr>
          <a:xfrm>
            <a:off x="1066680" y="1143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54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17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8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9" descr=""/>
          <p:cNvPicPr/>
          <p:nvPr/>
        </p:nvPicPr>
        <p:blipFill>
          <a:blip r:embed="rId6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4335E-006 C 0.03316 -0.12601 -0.01302 -0.25664 -0.10052 -0.29826 C -0.19098 -0.34127 -0.28837 -0.27861 -0.32205 -0.15283 C -0.35556 -0.02659 -0.454 0.03584 -0.5441 -0.00693 C -0.63195 -0.04855 -0.67761 -0.17942 -0.64375 -0.30566 E">
                                      <p:cBhvr>
                                        <p:cTn id="25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56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123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62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26" name="WordArt 63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27" name="WordArt 64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28" name="WordArt 65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29" name="WordArt 66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30" name="Text Box 68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We …….. insec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9"/>
          <p:cNvSpPr/>
          <p:nvPr/>
        </p:nvSpPr>
        <p:spPr>
          <a:xfrm>
            <a:off x="2743200" y="1143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54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33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58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9" descr=""/>
          <p:cNvPicPr/>
          <p:nvPr/>
        </p:nvPicPr>
        <p:blipFill>
          <a:blip r:embed="rId6"/>
          <a:stretch/>
        </p:blipFill>
        <p:spPr>
          <a:xfrm>
            <a:off x="6324480" y="584820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69942E-006 C -0.03021 0.0555 -0.10452 0.04995 -0.16545 -0.00971 C -0.22813 -0.07052 -0.25417 -0.16254 -0.22309 -0.21734 C -0.19254 -0.27398 -0.21875 -0.36485 -0.28142 -0.42566 C -0.34254 -0.48555 -0.41597 -0.49086 -0.44653 -0.43514 E">
                                      <p:cBhvr>
                                        <p:cTn id="321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98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139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2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42" name="WordArt 63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43" name="WordArt 64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44" name="WordArt 65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45" name="WordArt 66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46" name="Text Box 68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t ……… cold. It’s warm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9"/>
          <p:cNvSpPr/>
          <p:nvPr/>
        </p:nvSpPr>
        <p:spPr>
          <a:xfrm>
            <a:off x="1981080" y="1143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is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54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49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9" descr=""/>
          <p:cNvPicPr/>
          <p:nvPr/>
        </p:nvPicPr>
        <p:blipFill>
          <a:blip r:embed="rId5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0" descr=""/>
          <p:cNvPicPr/>
          <p:nvPr/>
        </p:nvPicPr>
        <p:blipFill>
          <a:blip r:embed="rId6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86 0.02104 C 0.07066 0.05734 0.11649 0.05942 0.13055 0.02867 C 0.14531 -0.0037 0.12274 -0.05711 0.07795 -0.09341 C 0.03298 -0.12971 0.01041 -0.18266 0.025 -0.2148 C 0.03906 -0.24578 0.08541 -0.24393 0.13003 -0.20763 E">
                                      <p:cBhvr>
                                        <p:cTn id="36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5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99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155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58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59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60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61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62" name="Text Box 70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We’re not sad. We ……… happ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1"/>
          <p:cNvSpPr/>
          <p:nvPr/>
        </p:nvSpPr>
        <p:spPr>
          <a:xfrm>
            <a:off x="5410080" y="1143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156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65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98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533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1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2" descr=""/>
          <p:cNvPicPr/>
          <p:nvPr/>
        </p:nvPicPr>
        <p:blipFill>
          <a:blip r:embed="rId6"/>
          <a:stretch/>
        </p:blipFill>
        <p:spPr>
          <a:xfrm>
            <a:off x="6324480" y="584820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69942E-006 C -0.03021 0.0555 -0.10452 0.04995 -0.16545 -0.00971 C -0.22813 -0.07052 -0.25417 -0.16254 -0.22309 -0.21734 C -0.19254 -0.27398 -0.21875 -0.36485 -0.28142 -0.42566 C -0.34254 -0.48555 -0.41597 -0.49086 -0.44653 -0.43514 E">
                                      <p:cBhvr>
                                        <p:cTn id="427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5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98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171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74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75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76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77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78" name="Text Box 70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re ……… dogs in the garde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1"/>
          <p:cNvSpPr/>
          <p:nvPr/>
        </p:nvSpPr>
        <p:spPr>
          <a:xfrm>
            <a:off x="1600200" y="1143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re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56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81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533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00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01" descr=""/>
          <p:cNvPicPr/>
          <p:nvPr/>
        </p:nvPicPr>
        <p:blipFill>
          <a:blip r:embed="rId6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-0.01318 C 0.01823 0.00647 0.06875 -0.02381 0.08055 -0.07977 C 0.09271 -0.13711 0.06146 -0.19838 0.00781 -0.2185 C -0.04514 -0.23861 -0.07709 -0.29988 -0.06493 -0.35722 C -0.0533 -0.41295 -0.00243 -0.4437 0.05173 -0.42358 E">
                                      <p:cBhvr>
                                        <p:cTn id="4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18:51:02Z</dcterms:created>
  <dc:creator>Gabi Sandru</dc:creator>
  <dc:description/>
  <dc:language>en-US</dc:language>
  <cp:lastModifiedBy>igal</cp:lastModifiedBy>
  <dcterms:modified xsi:type="dcterms:W3CDTF">2012-10-08T12:18:19Z</dcterms:modified>
  <cp:revision>9</cp:revision>
  <dc:subject>to be</dc:subject>
  <dc:title>The verb 'to be'</dc:title>
</cp:coreProperties>
</file>